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3B0-5643-47C6-AD32-26B5F5FEE66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65C5-1D54-48A2-96D8-6E22D7EBD4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77C5-2853-4955-9C9C-8B7945CFDF3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765-E226-4D76-B97F-87918F34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254-6E5B-428A-87C0-D4D7F4B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BDF-1BAE-46C9-BE00-F5BD340C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886-3E3E-4BE1-85BF-35BCA4AD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99E-6137-4D13-8BE3-B8B8A070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486-138E-4F4C-8196-3BF8ECB8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7EC-1A61-4593-BDAA-92414CFC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F01-67AD-4863-BE6E-19E6786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C00-6C88-4B53-B9E4-3EA6906C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7C5-7E10-4A2A-83AF-A60E531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B52-7F47-414F-BF72-B351034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792-BB73-4A7E-BF4B-FD188F7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06F-9D87-4036-AC3E-60E7778419D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Century Gothic"/>
              </a:rPr>
              <a:t>Data: 18 de fevereir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29384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Century Gothic"/>
              </a:rPr>
              <a:t>Relatório de Situ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logo 2007 Governo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2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ató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ixaDeTexto 15"/>
          <p:cNvSpPr/>
          <p:nvPr/>
        </p:nvSpPr>
        <p:spPr>
          <a:xfrm>
            <a:off x="393480" y="2214720"/>
            <a:ext cx="657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6666"/>
                </a:solidFill>
                <a:uFillTx/>
                <a:latin typeface="Tahoma"/>
              </a:rPr>
              <a:t>Funções do Relatório de Situação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Programação Mensal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Acompanhamento de Etapas e Marcos Pactu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6666"/>
                </a:solidFill>
                <a:latin typeface="Tahoma"/>
              </a:rPr>
              <a:t>Levantamentos de dificuldades e risc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82" name="Texto explicativo retangular com cantos arredondados 24"/>
          <p:cNvSpPr/>
          <p:nvPr/>
        </p:nvSpPr>
        <p:spPr>
          <a:xfrm>
            <a:off x="5000760" y="292896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úmero informado pela setor  requisitante que servirá para acompanhamento do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 explicativo retangular com cantos arredondados 25"/>
          <p:cNvSpPr/>
          <p:nvPr/>
        </p:nvSpPr>
        <p:spPr>
          <a:xfrm>
            <a:off x="0" y="3286080"/>
            <a:ext cx="2700360" cy="164304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 entidade: SEMAD,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 explicativo retangular com cantos arredondados 27"/>
          <p:cNvSpPr/>
          <p:nvPr/>
        </p:nvSpPr>
        <p:spPr>
          <a:xfrm>
            <a:off x="214200" y="3786120"/>
            <a:ext cx="270036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uperintendência, no caso da SEMAD, e Diretorias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 explicativo retangular com cantos arredondados 30"/>
          <p:cNvSpPr/>
          <p:nvPr/>
        </p:nvSpPr>
        <p:spPr>
          <a:xfrm>
            <a:off x="3357720" y="3786120"/>
            <a:ext cx="2714400" cy="2286000"/>
          </a:xfrm>
          <a:prstGeom prst="wedgeRoundRectCallout">
            <a:avLst>
              <a:gd name="adj1" fmla="val 18217"/>
              <a:gd name="adj2" fmla="val -9295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na list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ordenadoria ou Diretoria, no caso da SEMAD, e Gerências   no caso da FEAM, IEF e IG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 explicativo retangular com cantos arredondados 32"/>
          <p:cNvSpPr/>
          <p:nvPr/>
        </p:nvSpPr>
        <p:spPr>
          <a:xfrm>
            <a:off x="1500120" y="39290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classificação do Projeto, conforme opções da Lista: Estruturador,  Associado e 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99" name="Texto explicativo retangular com cantos arredondados 32"/>
          <p:cNvSpPr/>
          <p:nvPr/>
        </p:nvSpPr>
        <p:spPr>
          <a:xfrm>
            <a:off x="1571760" y="414324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Projeto ou Programa,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 explicativo retangular com cantos arredondados 15"/>
          <p:cNvSpPr/>
          <p:nvPr/>
        </p:nvSpPr>
        <p:spPr>
          <a:xfrm>
            <a:off x="5786280" y="4286160"/>
            <a:ext cx="2700360" cy="2286000"/>
          </a:xfrm>
          <a:prstGeom prst="wedgeRoundRectCallout">
            <a:avLst>
              <a:gd name="adj1" fmla="val -37490"/>
              <a:gd name="adj2" fmla="val -87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Gerente  Projeto somente no caso do Projeto   Estrutur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 explicativo retangular com cantos arredondados 16"/>
          <p:cNvSpPr/>
          <p:nvPr/>
        </p:nvSpPr>
        <p:spPr>
          <a:xfrm>
            <a:off x="214200" y="4572000"/>
            <a:ext cx="2700360" cy="2286000"/>
          </a:xfrm>
          <a:prstGeom prst="wedgeRoundRectCallout">
            <a:avLst>
              <a:gd name="adj1" fmla="val -4722"/>
              <a:gd name="adj2" fmla="val -845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 o nome da Ação conforme opções da 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 explicativo retangular com cantos arredondados 17"/>
          <p:cNvSpPr/>
          <p:nvPr/>
        </p:nvSpPr>
        <p:spPr>
          <a:xfrm>
            <a:off x="5857920" y="4572000"/>
            <a:ext cx="2700360" cy="2286000"/>
          </a:xfrm>
          <a:prstGeom prst="wedgeRoundRectCallout">
            <a:avLst>
              <a:gd name="adj1" fmla="val -53328"/>
              <a:gd name="adj2" fmla="val -8134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 nome do Responsável ou Ordenador responsável pel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 explicativo retangular com cantos arredondados 18"/>
          <p:cNvSpPr/>
          <p:nvPr/>
        </p:nvSpPr>
        <p:spPr>
          <a:xfrm>
            <a:off x="2286000" y="2357280"/>
            <a:ext cx="2700360" cy="2286000"/>
          </a:xfrm>
          <a:prstGeom prst="wedgeRoundRectCallout">
            <a:avLst>
              <a:gd name="adj1" fmla="val -120509"/>
              <a:gd name="adj2" fmla="val 4446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selecionar o número da Ação. Esse número deverá ser o mesmo número que aparece automaticamente ao escolher a  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8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"/>
          <p:cNvPicPr/>
          <p:nvPr/>
        </p:nvPicPr>
        <p:blipFill>
          <a:blip r:embed="rId11"/>
          <a:srcRect l="3126" t="25586" r="3126" b="8986"/>
          <a:stretch/>
        </p:blipFill>
        <p:spPr>
          <a:xfrm>
            <a:off x="0" y="1643040"/>
            <a:ext cx="9144000" cy="4786200"/>
          </a:xfrm>
          <a:prstGeom prst="rect">
            <a:avLst/>
          </a:prstGeom>
          <a:ln w="0">
            <a:noFill/>
          </a:ln>
        </p:spPr>
      </p:pic>
      <p:sp>
        <p:nvSpPr>
          <p:cNvPr id="116" name="Texto explicativo retangular com cantos arredondados 32"/>
          <p:cNvSpPr/>
          <p:nvPr/>
        </p:nvSpPr>
        <p:spPr>
          <a:xfrm>
            <a:off x="857160" y="100008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escolher o Grupo de Despesa – Crédito Autorizado que será utilizado. As opões aparecem automaticamente conforme o número d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 explicativo retangular com cantos arredondados 19"/>
          <p:cNvSpPr/>
          <p:nvPr/>
        </p:nvSpPr>
        <p:spPr>
          <a:xfrm>
            <a:off x="1714680" y="928800"/>
            <a:ext cx="270000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liber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 explicativo retangular com cantos arredondados 20"/>
          <p:cNvSpPr/>
          <p:nvPr/>
        </p:nvSpPr>
        <p:spPr>
          <a:xfrm>
            <a:off x="278604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utilizado acumulado no 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 explicativo retangular com cantos arredondados 21"/>
          <p:cNvSpPr/>
          <p:nvPr/>
        </p:nvSpPr>
        <p:spPr>
          <a:xfrm>
            <a:off x="3571920" y="85716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valor solicitado no mês é preenchido automaticamente conforme a Programação de Desp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 explicativo retangular com cantos arredondados 22"/>
          <p:cNvSpPr/>
          <p:nvPr/>
        </p:nvSpPr>
        <p:spPr>
          <a:xfrm>
            <a:off x="4429080" y="928800"/>
            <a:ext cx="2700360" cy="271440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formar o valor do saldo anual  que será  o Crédito Autorizado subtraído do Crédito Liberado no 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 explicativo retangular com cantos arredondados 23"/>
          <p:cNvSpPr/>
          <p:nvPr/>
        </p:nvSpPr>
        <p:spPr>
          <a:xfrm>
            <a:off x="428760" y="1000080"/>
            <a:ext cx="2700360" cy="3857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preencher quais são as etapas ou marcos, conforme acordado com o GERAES/SEPLAG, no caso dos Projetos Estruturadores, e com a SIL no caso dos demais 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 explicativo retangular com cantos arredondados 24"/>
          <p:cNvSpPr/>
          <p:nvPr/>
        </p:nvSpPr>
        <p:spPr>
          <a:xfrm>
            <a:off x="328608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o alcançado mensal da Etapa ou 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 explicativo retangular com cantos arredondados 26"/>
          <p:cNvSpPr/>
          <p:nvPr/>
        </p:nvSpPr>
        <p:spPr>
          <a:xfrm>
            <a:off x="1071720" y="2428920"/>
            <a:ext cx="5000400" cy="2714760"/>
          </a:xfrm>
          <a:prstGeom prst="wedgeRoundRectCallout">
            <a:avLst>
              <a:gd name="adj1" fmla="val 55518"/>
              <a:gd name="adj2" fmla="val 71152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prevista de término da Etapa ou Marco.  Para as etapas que estão ocorrendo dentro da sua normalidade a data de previsão de término será a mesma que o Término Planejado. Já para as etapas que  estão atrasadas, o responsável deverá informar a nova data de conclusão previ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o explicativo retangular com cantos arredondados 27"/>
          <p:cNvSpPr/>
          <p:nvPr/>
        </p:nvSpPr>
        <p:spPr>
          <a:xfrm>
            <a:off x="1785960" y="2428920"/>
            <a:ext cx="6700680" cy="2714760"/>
          </a:xfrm>
          <a:prstGeom prst="wedgeRoundRectCallout">
            <a:avLst>
              <a:gd name="adj1" fmla="val 33884"/>
              <a:gd name="adj2" fmla="val 6843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Farol é um indicador visual de acompanhamento da etapa ou marco. A regra 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de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que terminaram na data planej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Amarel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té 60 dias além do planej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ffffff"/>
                </a:solidFill>
                <a:uFillTx/>
                <a:latin typeface="Arial"/>
              </a:rPr>
              <a:t>Vermelh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: para etapas com previsão de término para além de 60 dias da data planej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2" dur="1" fill="hold"/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39" name="Texto explicativo retangular com cantos arredondados 28"/>
          <p:cNvSpPr/>
          <p:nvPr/>
        </p:nvSpPr>
        <p:spPr>
          <a:xfrm>
            <a:off x="0" y="2928960"/>
            <a:ext cx="2700360" cy="2286000"/>
          </a:xfrm>
          <a:prstGeom prst="wedgeRoundRectCallout">
            <a:avLst>
              <a:gd name="adj1" fmla="val -13824"/>
              <a:gd name="adj2" fmla="val -83763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a despesa solicitada, escolhendo as opções da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o explicativo retangular com cantos arredondados 29"/>
          <p:cNvSpPr/>
          <p:nvPr/>
        </p:nvSpPr>
        <p:spPr>
          <a:xfrm>
            <a:off x="285840" y="3000240"/>
            <a:ext cx="2700360" cy="2286000"/>
          </a:xfrm>
          <a:prstGeom prst="wedgeRoundRectCallout">
            <a:avLst>
              <a:gd name="adj1" fmla="val 32351"/>
              <a:gd name="adj2" fmla="val -8618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GF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o explicativo retangular com cantos arredondados 30"/>
          <p:cNvSpPr/>
          <p:nvPr/>
        </p:nvSpPr>
        <p:spPr>
          <a:xfrm>
            <a:off x="428760" y="3071880"/>
            <a:ext cx="2700360" cy="2286000"/>
          </a:xfrm>
          <a:prstGeom prst="wedgeRoundRectCallout">
            <a:avLst>
              <a:gd name="adj1" fmla="val 70833"/>
              <a:gd name="adj2" fmla="val -8679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a quantidade do item solic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o explicativo retangular com cantos arredondados 31"/>
          <p:cNvSpPr/>
          <p:nvPr/>
        </p:nvSpPr>
        <p:spPr>
          <a:xfrm>
            <a:off x="152280" y="3081240"/>
            <a:ext cx="2700360" cy="2286000"/>
          </a:xfrm>
          <a:prstGeom prst="wedgeRoundRectCallout">
            <a:avLst>
              <a:gd name="adj1" fmla="val 132398"/>
              <a:gd name="adj2" fmla="val -9285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valor unit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o explicativo retangular com cantos arredondados 33"/>
          <p:cNvSpPr/>
          <p:nvPr/>
        </p:nvSpPr>
        <p:spPr>
          <a:xfrm>
            <a:off x="304920" y="3233880"/>
            <a:ext cx="2700360" cy="2286000"/>
          </a:xfrm>
          <a:prstGeom prst="wedgeRoundRectCallout">
            <a:avLst>
              <a:gd name="adj1" fmla="val 179087"/>
              <a:gd name="adj2" fmla="val -9406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lculado automat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o explicativo retangular com cantos arredondados 34"/>
          <p:cNvSpPr/>
          <p:nvPr/>
        </p:nvSpPr>
        <p:spPr>
          <a:xfrm>
            <a:off x="457200" y="3386160"/>
            <a:ext cx="2700360" cy="2286000"/>
          </a:xfrm>
          <a:prstGeom prst="wedgeRoundRectCallout">
            <a:avLst>
              <a:gd name="adj1" fmla="val 231935"/>
              <a:gd name="adj2" fmla="val -10194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descrever o motivo pelo qual está solicitando o recur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logo 2007 Governo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3"/>
          <p:cNvSpPr/>
          <p:nvPr/>
        </p:nvSpPr>
        <p:spPr>
          <a:xfrm>
            <a:off x="216000" y="90792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66"/>
                </a:solidFill>
                <a:latin typeface="Tahoma"/>
              </a:rPr>
              <a:t>Relátorio de Situ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 explicativo retangular com cantos arredondados 25"/>
          <p:cNvSpPr/>
          <p:nvPr/>
        </p:nvSpPr>
        <p:spPr>
          <a:xfrm>
            <a:off x="4357800" y="2428920"/>
            <a:ext cx="2700360" cy="2714760"/>
          </a:xfrm>
          <a:prstGeom prst="wedgeRoundRectCallout">
            <a:avLst>
              <a:gd name="adj1" fmla="val 12754"/>
              <a:gd name="adj2" fmla="val 68976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deverá informar  a data de término planejado conforme o acordado com a SEPLAG ou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1"/>
          <a:srcRect l="3126" t="23632" r="3126" b="9961"/>
          <a:stretch/>
        </p:blipFill>
        <p:spPr>
          <a:xfrm>
            <a:off x="0" y="150012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158" name="Texto explicativo retangular com cantos arredondados 17"/>
          <p:cNvSpPr/>
          <p:nvPr/>
        </p:nvSpPr>
        <p:spPr>
          <a:xfrm>
            <a:off x="0" y="64296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nome do servidor que viaj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o explicativo retangular com cantos arredondados 18"/>
          <p:cNvSpPr/>
          <p:nvPr/>
        </p:nvSpPr>
        <p:spPr>
          <a:xfrm>
            <a:off x="3800520" y="642960"/>
            <a:ext cx="2700360" cy="2286000"/>
          </a:xfrm>
          <a:prstGeom prst="wedgeRoundRectCallout">
            <a:avLst>
              <a:gd name="adj1" fmla="val 131453"/>
              <a:gd name="adj2" fmla="val 71717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tor solicitante deverá informar o motivo da vi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 explicativo retangular com cantos arredondados 20"/>
          <p:cNvSpPr/>
          <p:nvPr/>
        </p:nvSpPr>
        <p:spPr>
          <a:xfrm>
            <a:off x="1000080" y="714240"/>
            <a:ext cx="2700360" cy="3133800"/>
          </a:xfrm>
          <a:prstGeom prst="wedgeRoundRectCallout">
            <a:avLst>
              <a:gd name="adj1" fmla="val 33689"/>
              <a:gd name="adj2" fmla="val 63259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ampo opcional que o setor solicitante poderá preencher no caso de alguma dificuldade encontrada para realizar etapas, marcos ou até mesmo 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o explicativo retangular com cantos arredondados 21"/>
          <p:cNvSpPr/>
          <p:nvPr/>
        </p:nvSpPr>
        <p:spPr>
          <a:xfrm>
            <a:off x="3357720" y="1857240"/>
            <a:ext cx="2700360" cy="2286000"/>
          </a:xfrm>
          <a:prstGeom prst="wedgeRoundRectCallout">
            <a:avLst>
              <a:gd name="adj1" fmla="val -3995"/>
              <a:gd name="adj2" fmla="val 64620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a ação de contramedida para atenuar ou evitar a situação proble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 explicativo retangular com cantos arredondados 22"/>
          <p:cNvSpPr/>
          <p:nvPr/>
        </p:nvSpPr>
        <p:spPr>
          <a:xfrm>
            <a:off x="5500800" y="1643040"/>
            <a:ext cx="2700360" cy="2286000"/>
          </a:xfrm>
          <a:prstGeom prst="wedgeRoundRectCallout">
            <a:avLst>
              <a:gd name="adj1" fmla="val -8912"/>
              <a:gd name="adj2" fmla="val 76231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o responsável  pela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 explicativo retangular com cantos arredondados 23"/>
          <p:cNvSpPr/>
          <p:nvPr/>
        </p:nvSpPr>
        <p:spPr>
          <a:xfrm>
            <a:off x="5653080" y="179532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 setor solicitante informará  uma data plausível para o responsável  adotar a  contramedi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 explicativo retangular com cantos arredondados 26"/>
          <p:cNvSpPr/>
          <p:nvPr/>
        </p:nvSpPr>
        <p:spPr>
          <a:xfrm>
            <a:off x="2357280" y="3071880"/>
            <a:ext cx="2700360" cy="2286000"/>
          </a:xfrm>
          <a:prstGeom prst="wedgeRoundRectCallout">
            <a:avLst>
              <a:gd name="adj1" fmla="val 23861"/>
              <a:gd name="adj2" fmla="val 66555"/>
              <a:gd name="adj3" fmla="val 16667"/>
            </a:avLst>
          </a:prstGeom>
          <a:solidFill>
            <a:srgbClr val="6600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ssinatura dos responsáve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8:22:08Z</dcterms:created>
  <dc:creator>João Paulo de Souza Mairinque</dc:creator>
  <dc:description/>
  <dc:language>en-US</dc:language>
  <cp:lastModifiedBy>João Paulo de Souza Mairinque</cp:lastModifiedBy>
  <dcterms:modified xsi:type="dcterms:W3CDTF">2008-02-17T21:21:24Z</dcterms:modified>
  <cp:revision>20</cp:revision>
  <dc:subject/>
  <dc:title>Slide 1</dc:title>
</cp:coreProperties>
</file>